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5E9-D23F-4731-A4E9-C08A78D0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B55-E941-4D4E-ACE2-C4F7772A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224-CC36-42C6-96DF-A56CECC4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976-EB26-4F5B-89C4-C76848D8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C42C-2FEC-4D2E-ACCE-C6F5B9BE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6FB2-7E82-498A-89E4-7B59D28E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966F-CDAB-41F3-A136-40D3CF87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1C2B-C9FF-450B-A7B4-71DF13BE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AFCE-C39A-4C90-9783-4B9F7F25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DEC3-3B59-4003-94F5-3945ADA0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1215-7042-4F0A-B67A-F8720D28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AA3-6096-40FB-BCE1-6D4967BE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5A32-ADC0-482C-BFB0-A995BA6F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1E29-00B8-44F8-A1D0-78B4DFD1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911A-A405-470D-B25C-C62DD978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27B4-D234-4BF1-892C-5DCE4D0A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FB32-541B-403C-8925-1860746D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28E-4CD4-47DE-A374-D5EE4ABC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F2C-3595-48E4-9B4A-0F3B942B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14D-7751-47F9-BD59-BB0BAFEE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814-2EF9-48A7-91F5-44F98955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DA5-8DD3-4479-923C-D270B59D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A56-0A47-4296-B74D-4DDA35C4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79C-BEBF-45B9-84D8-839D10A2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EADB-584C-4E22-9835-F0929857E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79CA-9672-418E-ACA0-1B53A8E193DD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rincetown LET"/>
              </a:rPr>
              <a:t>Jacks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Funny, brave, strong, c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Son of Mark and H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Who loves to to rugby and ride my motorb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Who feels happy when in the tractor with 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Who fears my s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Who would some day like to be in the Black C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O’Connor</a:t>
            </a:r>
            <a:r>
              <a:rPr b="0" lang="en-US" sz="2400" spc="-1" strike="noStrike">
                <a:solidFill>
                  <a:srgbClr val="000000"/>
                </a:solidFill>
                <a:latin typeface="Blackmoor LE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40132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2:43:12Z</dcterms:created>
  <dc:creator>Tim Marriott</dc:creator>
  <dc:description/>
  <dc:language>en-US</dc:language>
  <cp:lastModifiedBy>Tim Marriott</cp:lastModifiedBy>
  <cp:lastPrinted>2009-02-11T19:33:19Z</cp:lastPrinted>
  <dcterms:modified xsi:type="dcterms:W3CDTF">2009-02-11T19:33:23Z</dcterms:modified>
  <cp:revision>4</cp:revision>
  <dc:subject/>
  <dc:title>Jackson</dc:title>
</cp:coreProperties>
</file>